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9A66-3F3E-428F-B193-E57C0F15E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your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 BUT after the person answers the question, the group has to stay on aler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volunteers raise hands to share responses to any of the partner walk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used this Random Selection more than a few times today, so now le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so used this strategy to structure the discussion we had after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used this strategy yet so let’s take a look at it here. As the name imp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s simple as tha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going to learn this by doing this; learning by doing</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is page in your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words here---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al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ly something we know intuitively. We are all motivated to learn and we learn at higher levels, when we are more actively engage in the learning process. It’s human nature, and secondary students are no diffe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8C087-818A-44AE-88DF-44B7CD5C4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80975-D0E9-4809-8172-87BB8A292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941E0-9B84-48C5-8C79-0B1E7EA25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0F306-A5A3-4DFA-BC04-6B9DE6C0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FCC60-DEB5-40B7-A056-CCC3A5D3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FED5A-B7AA-4DF8-9023-24E203D5A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D2820-F253-4B77-AF96-9F81AC23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CA152-A4E8-416D-BDAB-22DB6780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5FCC-A25D-4BAB-A40A-965B70B7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BF18-B723-47C0-83BC-5BE66F40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B2BF-11FE-40E2-B90A-527E3F74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229F-D28E-4ED6-8EEE-07A6B574D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892A-24DD-4898-9B80-A573CD3FB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06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06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on the hook,” knowing that your name could be pulle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sitive/negative impacts of questioning through random selecti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s without a selection too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their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or cou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 or disagree and tell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nother opin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e subject matter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5">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HP Authorized Customer</cp:lastModifiedBy>
  <dcterms:modified xsi:type="dcterms:W3CDTF">2010-11-12T04:22:19Z</dcterms:modified>
  <cp:revision>39</cp:revision>
  <dc:subject/>
  <dc:title>Active Engagement Strategies</dc:title>
</cp:coreProperties>
</file>